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E77F-9EB0-4214-849D-A6F3833D9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C2A2-B9A3-4371-84E9-4BBED5FF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21BB-7B3D-4EB5-8820-CB74AF72A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F503-DEF3-4448-A629-65A9A8F21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E458-AB82-441B-8CC7-06E72E7A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AC7F-0D15-4A5B-87C1-F44ACD0E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C4C5-AD25-45AA-AE02-03160F95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DE24-0632-4F1C-9BB2-58A59914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86B1-60CA-4F28-BB0A-35BAFBA0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29E2-DF27-4DA1-A2B0-D52C936E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CEAD-F710-4444-A694-F521379A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E469-0429-49A8-BD3B-F055F465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D912-937D-4E6C-802B-F8BC72B462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C5E309A2-0345-4BEE-866B-BFD760E3628B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ИНИСТЕРСТВО НАУКИ И ВЫСШЕГО ОБРАЗОВАНИЯ РОССИЙСКОЙ ФЕДЕРАЦИИ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Федеральное государственное бюджетное образовательное учреждение высшего образования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«Рязанский государственный радиотехнический университет имени В.Ф. Уткина»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афедра промышленной электрон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0" y="1557360"/>
            <a:ext cx="91440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br>
              <a:rPr sz="4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 выпускной квалификационной работе</a:t>
            </a: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ма выпускной квалификационной рабо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0" y="4292640"/>
            <a:ext cx="914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учающийся: студент гр. 723М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тров И.С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уководитель: к.т.н., доцент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доров А.А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язань, 201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1E23089D-5D8C-4E13-B9AF-92CD0F879D80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ыводы по работ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5FCB38D6-8937-4F4D-9941-9A5E8A60A5C5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0" y="11160"/>
            <a:ext cx="9144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убликации по работе (для магистров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0" y="981000"/>
            <a:ext cx="9144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пробация результатов работы производилас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2-х конференциях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Библиографическая ссылка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Библиографическая ссылка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0" y="3716280"/>
            <a:ext cx="9144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зультаты работы были опубликованы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2-х научных статьях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Библиографическая ссылка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Библиографическая ссылка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764FE258-EDDE-4D7B-A33F-2F7D54F4278B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ктуальность раб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Заголовок 1"/>
          <p:cNvSpPr/>
          <p:nvPr/>
        </p:nvSpPr>
        <p:spPr>
          <a:xfrm>
            <a:off x="0" y="3357720"/>
            <a:ext cx="9144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учная новизна работы (для магистров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EB785083-FEB3-412D-9DE7-7FBCC3ADCFFD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0" y="0"/>
            <a:ext cx="9144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Цель и задачи рабо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D8213EFA-8849-4447-A6C1-8DA336BABE03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оретическая часть (кратко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4576D93B-6DE9-48C2-A047-71DDFD2294CA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счетная часть (кратк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1666350E-E851-4846-AF4F-9B67FAB7B1EC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Заголовок 1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265BF75E-51DF-4A98-8AC0-B90302A479CF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45280501-4ED0-4148-A51F-223073741C21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7A7E581C-A047-4F9B-B619-13488E5F97B0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9T06:13:54Z</dcterms:created>
  <dc:creator>Пользователь Windows</dc:creator>
  <dc:description/>
  <dc:language>en-US</dc:language>
  <cp:lastModifiedBy>ASUS</cp:lastModifiedBy>
  <dcterms:modified xsi:type="dcterms:W3CDTF">2019-06-20T03:33:41Z</dcterms:modified>
  <cp:revision>23</cp:revision>
  <dc:subject/>
  <dc:title>МИНИСТЕРСТВО НАУКИ И ВЫСШЕГО ОБРАЗОВАНИЯ  РОССИЙСКОЙ ФЕДЕРАЦИИ Федеральное государственное бюджетное образовательное учреждение  высшего образования  «Рязанский государственный радиотехнический университет имени В.Ф. Уткина» Кафедра промышленной электроники</dc:title>
</cp:coreProperties>
</file>